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08F274-6D4D-4AE9-BEEF-5338C4B78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FC21BA-CB9D-4EE1-91EB-651B01844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109A85-4222-46DE-BD00-D652F68EF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3C4A8C-FCC1-4459-83EB-98555FC63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85E647-32AB-476E-96FB-DD7EA6912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98D322-1892-4F4D-97D2-C5468BA6B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DAB49B-8738-4AEF-BA4D-F80DFD4AC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372723-0288-495E-AD84-26138D543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76BF05-4F16-4D69-B560-FD06D76F6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91AFD9-A92A-4A93-BE22-75271786F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6C9FFC-5259-41C5-81F3-D376D5320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2922B-B662-4CAA-B571-C62EB54D27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8C0B9-C568-4C02-9306-A666D09568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4AF9D-DCA9-41AE-9683-7BBFFD681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E9209-055E-4B04-8A81-2D564DD4B0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40044-53FE-4C29-87ED-6A16686CE1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988EF-272E-48CD-9984-65D3A9EE35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B14B2-8F57-4738-BFAB-B1AC84A7B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E7A9A-FBA6-4972-9DC4-39AF9C99E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83A63-BD27-4EA6-87C4-9C6CDAEBBD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C8D3D-8F0B-41AF-87DB-AA94AD859A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CD496-E3F5-4A41-BDE2-10C54C060B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1C03A-E19A-4495-BAEC-6928232445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2ED90D-075D-4A21-B6F6-A938C7BF0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3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.xml"/><Relationship Id="rId3" Type="http://schemas.openxmlformats.org/officeDocument/2006/relationships/slide" Target=""/><Relationship Id="rId4" Type="http://schemas.openxmlformats.org/officeDocument/2006/relationships/slide" Target="slide4.xm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.xml"/><Relationship Id="rId3" Type="http://schemas.openxmlformats.org/officeDocument/2006/relationships/image" Target="../media/image1.jpeg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image" Target="../media/image2.jpeg"/><Relationship Id="rId8" Type="http://schemas.openxmlformats.org/officeDocument/2006/relationships/image" Target="../media/image8.jpeg"/><Relationship Id="rId9" Type="http://schemas.openxmlformats.org/officeDocument/2006/relationships/slide" Target="slide7.xml"/><Relationship Id="rId10" Type="http://schemas.openxmlformats.org/officeDocument/2006/relationships/slide" Target="slide6.xml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.xml"/><Relationship Id="rId3" Type="http://schemas.openxmlformats.org/officeDocument/2006/relationships/image" Target="../media/image2.jpeg"/><Relationship Id="rId4" Type="http://schemas.openxmlformats.org/officeDocument/2006/relationships/image" Target="../media/image9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ie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very sad because the love of her life is gone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5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8862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152280" y="281952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uliet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152280" y="3048120"/>
            <a:ext cx="16002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152280" y="304812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uliet a messag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152280" y="327672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Juliet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15"/>
          <p:cNvSpPr/>
          <p:nvPr/>
        </p:nvSpPr>
        <p:spPr>
          <a:xfrm>
            <a:off x="152280" y="3276720"/>
            <a:ext cx="16002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16"/>
          <p:cNvSpPr/>
          <p:nvPr/>
        </p:nvSpPr>
        <p:spPr>
          <a:xfrm>
            <a:off x="152280" y="3505320"/>
            <a:ext cx="16002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18">
            <a:hlinkClick r:id="rId3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9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4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25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6"/>
          <p:cNvSpPr/>
          <p:nvPr/>
        </p:nvSpPr>
        <p:spPr>
          <a:xfrm>
            <a:off x="152280" y="35053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27"/>
          <p:cNvSpPr/>
          <p:nvPr/>
        </p:nvSpPr>
        <p:spPr>
          <a:xfrm>
            <a:off x="152280" y="3505320"/>
            <a:ext cx="16002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8"/>
          <p:cNvSpPr/>
          <p:nvPr/>
        </p:nvSpPr>
        <p:spPr>
          <a:xfrm>
            <a:off x="152280" y="373392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on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 3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Prince Escalu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ona, Ita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29"/>
          <p:cNvSpPr/>
          <p:nvPr/>
        </p:nvSpPr>
        <p:spPr>
          <a:xfrm>
            <a:off x="152280" y="51814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30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31"/>
          <p:cNvSpPr/>
          <p:nvPr/>
        </p:nvSpPr>
        <p:spPr>
          <a:xfrm>
            <a:off x="0" y="6248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meo          Tybalt           Nurse 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43"/>
          <p:cNvSpPr/>
          <p:nvPr/>
        </p:nvSpPr>
        <p:spPr>
          <a:xfrm>
            <a:off x="2590920" y="3276720"/>
            <a:ext cx="5486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iet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an’t stand this creeper! He’s really freaking me out. Why is he so anxious to marry me? I don’t know what to do!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44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rse to Juliet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y we need to talk about the party last night!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45"/>
          <p:cNvSpPr/>
          <p:nvPr/>
        </p:nvSpPr>
        <p:spPr>
          <a:xfrm>
            <a:off x="2590920" y="510552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meo to Juliet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t was really nice “talking” with you at the party. I want to see you again sometime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48"/>
          <p:cNvSpPr/>
          <p:nvPr/>
        </p:nvSpPr>
        <p:spPr>
          <a:xfrm>
            <a:off x="152280" y="1828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49"/>
          <p:cNvSpPr/>
          <p:nvPr/>
        </p:nvSpPr>
        <p:spPr>
          <a:xfrm>
            <a:off x="152280" y="18288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280" y="1676520"/>
          <a:ext cx="1524240" cy="1093680"/>
        </p:xfrm>
        <a:graphic>
          <a:graphicData uri="http://schemas.openxmlformats.org/drawingml/2006/table">
            <a:tbl>
              <a:tblPr/>
              <a:tblGrid>
                <a:gridCol w="1524240"/>
              </a:tblGrid>
              <a:tr h="109368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want you to know where I am Cause then you'll see my heart In the saddest state it's ever been. This is no place to try and live my life“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5" name="Picture 61" descr=""/>
          <p:cNvPicPr/>
          <p:nvPr/>
        </p:nvPicPr>
        <p:blipFill>
          <a:blip r:embed="rId5"/>
          <a:stretch/>
        </p:blipFill>
        <p:spPr>
          <a:xfrm>
            <a:off x="2133720" y="5029200"/>
            <a:ext cx="457200" cy="646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2" descr=""/>
          <p:cNvPicPr/>
          <p:nvPr/>
        </p:nvPicPr>
        <p:blipFill>
          <a:blip r:embed="rId6"/>
          <a:stretch/>
        </p:blipFill>
        <p:spPr>
          <a:xfrm>
            <a:off x="152280" y="5562720"/>
            <a:ext cx="378000" cy="533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3" descr="juliet.jpg"/>
          <p:cNvPicPr/>
          <p:nvPr/>
        </p:nvPicPr>
        <p:blipFill>
          <a:blip r:embed="rId7"/>
          <a:stretch/>
        </p:blipFill>
        <p:spPr>
          <a:xfrm>
            <a:off x="228600" y="533520"/>
            <a:ext cx="1371600" cy="1120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4" descr="tybalt.jpg"/>
          <p:cNvPicPr/>
          <p:nvPr/>
        </p:nvPicPr>
        <p:blipFill>
          <a:blip r:embed="rId8"/>
          <a:stretch/>
        </p:blipFill>
        <p:spPr>
          <a:xfrm>
            <a:off x="609480" y="55627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5" descr="nurse_juliet.jpg"/>
          <p:cNvPicPr/>
          <p:nvPr/>
        </p:nvPicPr>
        <p:blipFill>
          <a:blip r:embed="rId9"/>
          <a:srcRect l="4545" t="0" r="40918" b="55120"/>
          <a:stretch/>
        </p:blipFill>
        <p:spPr>
          <a:xfrm>
            <a:off x="1219320" y="5562720"/>
            <a:ext cx="536400" cy="541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3" descr="juliet.jpg"/>
          <p:cNvPicPr/>
          <p:nvPr/>
        </p:nvPicPr>
        <p:blipFill>
          <a:blip r:embed="rId10"/>
          <a:stretch/>
        </p:blipFill>
        <p:spPr>
          <a:xfrm>
            <a:off x="1981080" y="2527200"/>
            <a:ext cx="609840" cy="498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7"/>
          <p:cNvSpPr/>
          <p:nvPr/>
        </p:nvSpPr>
        <p:spPr>
          <a:xfrm>
            <a:off x="2590920" y="2590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i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 in a terrible mood. I don’t feel like my self without him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49"/>
          <p:cNvSpPr/>
          <p:nvPr/>
        </p:nvSpPr>
        <p:spPr>
          <a:xfrm>
            <a:off x="2590920" y="3809880"/>
            <a:ext cx="571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iet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 wishing she wouldn’t have to do what her parents want all the time. Why can’t it be about me for just this one time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55" descr="nurse_juliet.jpg"/>
          <p:cNvPicPr/>
          <p:nvPr/>
        </p:nvPicPr>
        <p:blipFill>
          <a:blip r:embed="rId11"/>
          <a:srcRect l="4545" t="0" r="40918" b="55120"/>
          <a:stretch/>
        </p:blipFill>
        <p:spPr>
          <a:xfrm>
            <a:off x="2057400" y="4419720"/>
            <a:ext cx="536400" cy="54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3" descr="juliet.jpg"/>
          <p:cNvPicPr/>
          <p:nvPr/>
        </p:nvPicPr>
        <p:blipFill>
          <a:blip r:embed="rId12"/>
          <a:stretch/>
        </p:blipFill>
        <p:spPr>
          <a:xfrm>
            <a:off x="1981080" y="3809880"/>
            <a:ext cx="609840" cy="498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3" descr="juliet.jpg"/>
          <p:cNvPicPr/>
          <p:nvPr/>
        </p:nvPicPr>
        <p:blipFill>
          <a:blip r:embed="rId13"/>
          <a:stretch/>
        </p:blipFill>
        <p:spPr>
          <a:xfrm>
            <a:off x="1981080" y="3200400"/>
            <a:ext cx="609840" cy="498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4" descr="tybalt.jpg"/>
          <p:cNvPicPr/>
          <p:nvPr/>
        </p:nvPicPr>
        <p:blipFill>
          <a:blip r:embed="rId14"/>
          <a:stretch/>
        </p:blipFill>
        <p:spPr>
          <a:xfrm>
            <a:off x="2057400" y="57913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97" name="TextBox 54"/>
          <p:cNvSpPr/>
          <p:nvPr/>
        </p:nvSpPr>
        <p:spPr>
          <a:xfrm>
            <a:off x="2590920" y="586728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balt to Juliet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 will see you at the party!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Line 1"/>
          <p:cNvSpPr/>
          <p:nvPr/>
        </p:nvSpPr>
        <p:spPr>
          <a:xfrm>
            <a:off x="3352680" y="3048120"/>
            <a:ext cx="3124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523880" y="6858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6">
            <a:hlinkClick r:id="rId1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7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2895480" y="0"/>
            <a:ext cx="91440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37339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57200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64771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152280" y="27432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uliet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152280" y="2971800"/>
            <a:ext cx="16002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52280" y="29718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uliet a messag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152280" y="32004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Juliet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>
            <a:off x="152280" y="3200400"/>
            <a:ext cx="16002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152280" y="33526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9">
            <a:hlinkClick r:id="rId5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1">
            <a:hlinkClick r:id="rId6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3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4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5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6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27"/>
          <p:cNvSpPr/>
          <p:nvPr/>
        </p:nvSpPr>
        <p:spPr>
          <a:xfrm>
            <a:off x="152280" y="33526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8"/>
          <p:cNvSpPr/>
          <p:nvPr/>
        </p:nvSpPr>
        <p:spPr>
          <a:xfrm>
            <a:off x="152280" y="359424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on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 3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Prince Escalu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ona, Ita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29"/>
          <p:cNvSpPr/>
          <p:nvPr/>
        </p:nvSpPr>
        <p:spPr>
          <a:xfrm>
            <a:off x="152280" y="4876920"/>
            <a:ext cx="16002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31"/>
          <p:cNvSpPr/>
          <p:nvPr/>
        </p:nvSpPr>
        <p:spPr>
          <a:xfrm>
            <a:off x="3200400" y="1752480"/>
            <a:ext cx="32004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32"/>
          <p:cNvSpPr/>
          <p:nvPr/>
        </p:nvSpPr>
        <p:spPr>
          <a:xfrm>
            <a:off x="205740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Verona, Ita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July 3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Verona, Ita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ing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or Prince Escalu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33"/>
          <p:cNvSpPr/>
          <p:nvPr/>
        </p:nvSpPr>
        <p:spPr>
          <a:xfrm>
            <a:off x="2133720" y="3200400"/>
            <a:ext cx="449568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Reading,  writing , and keeping to myself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Music, books, and  being a teenage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n., Relient K, and Taylor Swift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Notebook, New Moon, and Remember M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y’s Anatomy, Private Practice, and Bon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The Twilight Saga, My Sister’s Keeper, and The Last Song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35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37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38"/>
          <p:cNvSpPr/>
          <p:nvPr/>
        </p:nvSpPr>
        <p:spPr>
          <a:xfrm>
            <a:off x="3276720" y="4952880"/>
            <a:ext cx="32004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9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treets of Veron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421) 867-53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5" descr="balcony.jpg"/>
          <p:cNvPicPr/>
          <p:nvPr/>
        </p:nvPicPr>
        <p:blipFill>
          <a:blip r:embed="rId7"/>
          <a:srcRect l="34128" t="0" r="37308" b="57897"/>
          <a:stretch/>
        </p:blipFill>
        <p:spPr>
          <a:xfrm>
            <a:off x="152280" y="5334120"/>
            <a:ext cx="411120" cy="457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6" descr="romeo-and-juliet-1968.jpg"/>
          <p:cNvPicPr/>
          <p:nvPr/>
        </p:nvPicPr>
        <p:blipFill>
          <a:blip r:embed="rId8"/>
          <a:stretch/>
        </p:blipFill>
        <p:spPr>
          <a:xfrm>
            <a:off x="152280" y="6002280"/>
            <a:ext cx="457200" cy="44784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7"/>
          <p:cNvSpPr/>
          <p:nvPr/>
        </p:nvSpPr>
        <p:spPr>
          <a:xfrm>
            <a:off x="685800" y="5334120"/>
            <a:ext cx="60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70c0"/>
                </a:solidFill>
                <a:latin typeface="Arial"/>
              </a:rPr>
              <a:t>Balcony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d0d0d"/>
                </a:solidFill>
                <a:latin typeface="Arial"/>
              </a:rPr>
              <a:t>Updated Last month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48"/>
          <p:cNvSpPr/>
          <p:nvPr/>
        </p:nvSpPr>
        <p:spPr>
          <a:xfrm>
            <a:off x="685800" y="5943600"/>
            <a:ext cx="76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70c0"/>
                </a:solidFill>
                <a:latin typeface="Arial"/>
              </a:rPr>
              <a:t>The ball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d0d0d"/>
                </a:solidFill>
                <a:latin typeface="Arial"/>
              </a:rPr>
              <a:t>Updated three weeks ag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3" descr="juliet.jpg"/>
          <p:cNvPicPr/>
          <p:nvPr/>
        </p:nvPicPr>
        <p:blipFill>
          <a:blip r:embed="rId9"/>
          <a:stretch/>
        </p:blipFill>
        <p:spPr>
          <a:xfrm>
            <a:off x="228600" y="533520"/>
            <a:ext cx="1371600" cy="112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152280" y="1676520"/>
          <a:ext cx="1524240" cy="1093680"/>
        </p:xfrm>
        <a:graphic>
          <a:graphicData uri="http://schemas.openxmlformats.org/drawingml/2006/table">
            <a:tbl>
              <a:tblPr/>
              <a:tblGrid>
                <a:gridCol w="1524240"/>
              </a:tblGrid>
              <a:tr h="109368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want you to know where I am Cause then you'll see my heart In the saddest state it's ever been. This is no place to try and live my life“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0">
            <a:hlinkClick r:id="rId3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1">
            <a:hlinkClick r:id="rId4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685800" y="1828800"/>
            <a:ext cx="6095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685800" y="144792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xt Message Conversation with The Nurs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533520" y="4114800"/>
            <a:ext cx="56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og on Marriag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7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20"/>
          <p:cNvSpPr/>
          <p:nvPr/>
        </p:nvSpPr>
        <p:spPr>
          <a:xfrm>
            <a:off x="533520" y="1447920"/>
            <a:ext cx="6400800" cy="2590560"/>
          </a:xfrm>
          <a:prstGeom prst="rect">
            <a:avLst/>
          </a:prstGeom>
          <a:noFill/>
          <a:ln w="9360">
            <a:solidFill>
              <a:srgbClr val="8585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21"/>
          <p:cNvSpPr/>
          <p:nvPr/>
        </p:nvSpPr>
        <p:spPr>
          <a:xfrm>
            <a:off x="533520" y="4114800"/>
            <a:ext cx="6400800" cy="2438280"/>
          </a:xfrm>
          <a:prstGeom prst="rect">
            <a:avLst/>
          </a:prstGeom>
          <a:noFill/>
          <a:ln w="9360">
            <a:solidFill>
              <a:srgbClr val="8585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22" descr="juliet.jpg"/>
          <p:cNvPicPr/>
          <p:nvPr/>
        </p:nvPicPr>
        <p:blipFill>
          <a:blip r:embed="rId5"/>
          <a:stretch/>
        </p:blipFill>
        <p:spPr>
          <a:xfrm>
            <a:off x="152280" y="457200"/>
            <a:ext cx="746280" cy="6094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2"/>
          <p:cNvSpPr/>
          <p:nvPr/>
        </p:nvSpPr>
        <p:spPr>
          <a:xfrm>
            <a:off x="762120" y="1905120"/>
            <a:ext cx="4572000" cy="20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urse: Guess what I just heard!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: What? Is It good news?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urse: You are going to marry someone!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: WHAT? That’s not good news!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urse: Your father said that if you don’t marry him in two days, you won’t be allowed to come home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: Oh great! This is terrible! I can’t go through with it! But if I don’t, then I won’t have anywhere to live. What should I do? Help me!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urse: I say marry him! That way you’ll have a hot husband and a roof to live under!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: I’m not so sure about that. I’m already married to Romeo! I can’t sin! I don’t know what to do! Why does this have to happen to me?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urse: Well, I’m sure you’ll figure it out. Good luck with that! I know you’ll take my advice!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: Oh yeah, thanks for helping me out…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urse: No problem sweetheart. Anything for you!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 can’t believe this is happening to me!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22"/>
          <p:cNvSpPr/>
          <p:nvPr/>
        </p:nvSpPr>
        <p:spPr>
          <a:xfrm>
            <a:off x="762120" y="4343040"/>
            <a:ext cx="48765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 my goodness. So my parents want me to marry this total creep. I don’t like him at all. I think they just want me to marry him because he has a lot of money. I really do not want to get married right now. I’m not even fifteen yet! I should be able to make my own decisions about myself. They should not make decisions for me! I think that getting married when you are a teenager is so dumb. There is really no point to get married if I do not even like the guy! I think they would not even like him if he did not have a lot of money. This is just such a stupid situation! I need some help. He will not stop texting me and he is getting really annoying! He just needs to realize that he is not the type of guy for m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24"/>
          <p:cNvSpPr/>
          <p:nvPr/>
        </p:nvSpPr>
        <p:spPr>
          <a:xfrm>
            <a:off x="676440" y="1676520"/>
            <a:ext cx="345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y nurse texted me the other day and told me this terrible news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0" y="182880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106668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box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61" descr=""/>
          <p:cNvPicPr/>
          <p:nvPr/>
        </p:nvPicPr>
        <p:blipFill>
          <a:blip r:embed="rId3"/>
          <a:stretch/>
        </p:blipFill>
        <p:spPr>
          <a:xfrm>
            <a:off x="457200" y="2057400"/>
            <a:ext cx="762120" cy="10764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9"/>
          <p:cNvSpPr/>
          <p:nvPr/>
        </p:nvSpPr>
        <p:spPr>
          <a:xfrm>
            <a:off x="1371600" y="2057400"/>
            <a:ext cx="6095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Arial"/>
              </a:rPr>
              <a:t>Rom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The Da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llo Juliet, I would really like to hang out with you sometime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0">
            <a:hlinkClick r:id="rId5" action="ppaction://hlinksldjump"/>
          </p:cNvPr>
          <p:cNvSpPr/>
          <p:nvPr/>
        </p:nvSpPr>
        <p:spPr>
          <a:xfrm>
            <a:off x="19051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0">
            <a:hlinkClick r:id="rId6" action="ppaction://hlinksldjump"/>
          </p:cNvPr>
          <p:cNvSpPr/>
          <p:nvPr/>
        </p:nvSpPr>
        <p:spPr>
          <a:xfrm>
            <a:off x="28195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Upda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990720" y="1219320"/>
            <a:ext cx="838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essag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traight Connector 30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traight Connector 32"/>
          <p:cNvSpPr/>
          <p:nvPr/>
        </p:nvSpPr>
        <p:spPr>
          <a:xfrm>
            <a:off x="0" y="4876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24" descr="juliet.jpg"/>
          <p:cNvPicPr/>
          <p:nvPr/>
        </p:nvPicPr>
        <p:blipFill>
          <a:blip r:embed="rId7"/>
          <a:stretch/>
        </p:blipFill>
        <p:spPr>
          <a:xfrm>
            <a:off x="152280" y="533520"/>
            <a:ext cx="839880" cy="685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0" descr="orlando_bloom.jpg"/>
          <p:cNvPicPr/>
          <p:nvPr/>
        </p:nvPicPr>
        <p:blipFill>
          <a:blip r:embed="rId8"/>
          <a:srcRect l="25933" t="0" r="3705" b="13570"/>
          <a:stretch/>
        </p:blipFill>
        <p:spPr>
          <a:xfrm>
            <a:off x="304920" y="3727440"/>
            <a:ext cx="990360" cy="9129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21"/>
          <p:cNvSpPr/>
          <p:nvPr/>
        </p:nvSpPr>
        <p:spPr>
          <a:xfrm>
            <a:off x="1523880" y="5257800"/>
            <a:ext cx="6400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2228b"/>
                </a:solidFill>
                <a:latin typeface="Arial"/>
              </a:rPr>
              <a:t>Pa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Than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y Juliet, thanks for writing me back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23"/>
          <p:cNvSpPr/>
          <p:nvPr/>
        </p:nvSpPr>
        <p:spPr>
          <a:xfrm>
            <a:off x="1523880" y="3733920"/>
            <a:ext cx="50292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2228b"/>
                </a:solidFill>
                <a:latin typeface="Arial"/>
              </a:rPr>
              <a:t>Pa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The Wedd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y Juliet, we need to talk about our wedding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20" descr="orlando_bloom.jpg"/>
          <p:cNvPicPr/>
          <p:nvPr/>
        </p:nvPicPr>
        <p:blipFill>
          <a:blip r:embed="rId11"/>
          <a:srcRect l="25933" t="0" r="3705" b="13570"/>
          <a:stretch/>
        </p:blipFill>
        <p:spPr>
          <a:xfrm>
            <a:off x="304920" y="5257800"/>
            <a:ext cx="990360" cy="9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106668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box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0">
            <a:hlinkClick r:id="rId3" action="ppaction://hlinksldjump"/>
          </p:cNvPr>
          <p:cNvSpPr/>
          <p:nvPr/>
        </p:nvSpPr>
        <p:spPr>
          <a:xfrm>
            <a:off x="19051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0">
            <a:hlinkClick r:id="rId4" action="ppaction://hlinksldjump"/>
          </p:cNvPr>
          <p:cNvSpPr/>
          <p:nvPr/>
        </p:nvSpPr>
        <p:spPr>
          <a:xfrm>
            <a:off x="28195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Upda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1066680" y="1219320"/>
            <a:ext cx="8384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essag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61" descr=""/>
          <p:cNvPicPr/>
          <p:nvPr/>
        </p:nvPicPr>
        <p:blipFill>
          <a:blip r:embed="rId5"/>
          <a:stretch/>
        </p:blipFill>
        <p:spPr>
          <a:xfrm>
            <a:off x="304920" y="1828800"/>
            <a:ext cx="1025280" cy="1447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7" descr="juliet.jpg"/>
          <p:cNvPicPr/>
          <p:nvPr/>
        </p:nvPicPr>
        <p:blipFill>
          <a:blip r:embed="rId6"/>
          <a:stretch/>
        </p:blipFill>
        <p:spPr>
          <a:xfrm>
            <a:off x="152280" y="533520"/>
            <a:ext cx="839880" cy="6858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6"/>
          <p:cNvSpPr/>
          <p:nvPr/>
        </p:nvSpPr>
        <p:spPr>
          <a:xfrm>
            <a:off x="1523880" y="1828800"/>
            <a:ext cx="4572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Juliet, I would really like to hang out with you sometime. I liked meeting you at your dance and I think that if we hung out, we would have a lot of fun. Maybe we could sneak away and just be together by ourselves for a whole day? Is that okay with you? Oh, and I meant to tell you something before I left. I am in love with the prettiest, smartest girl in the world. Do you know who that is? It’s you, Juliet. You are the most beautiful girl in the world! I would really like to know how you feel about me. If you don’t love me back, that’s okay because I just got over a girl who didn’t love me back. Her name was Roseline, but she does not matter anymore because I love you now and no one can change that. Your new friend, Romeo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17"/>
          <p:cNvSpPr/>
          <p:nvPr/>
        </p:nvSpPr>
        <p:spPr>
          <a:xfrm>
            <a:off x="106668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bo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1981080" y="121932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28195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Upda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066680" y="1219320"/>
            <a:ext cx="8384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essag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19" descr="juliet.jpg"/>
          <p:cNvPicPr/>
          <p:nvPr/>
        </p:nvPicPr>
        <p:blipFill>
          <a:blip r:embed="rId3"/>
          <a:stretch/>
        </p:blipFill>
        <p:spPr>
          <a:xfrm>
            <a:off x="152280" y="533520"/>
            <a:ext cx="839880" cy="6858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5"/>
          <p:cNvSpPr/>
          <p:nvPr/>
        </p:nvSpPr>
        <p:spPr>
          <a:xfrm>
            <a:off x="1676520" y="1752480"/>
            <a:ext cx="41148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y Juliet, we need to talk about our wedding. We need to get this official really soon because I really want to be with you. And you need to stop telling everyone that you don’t like me because it is very embarrassing. Everyone thinks that I am creepy when even you know that I am a wonderful, sophisticated, wealthy man that you should love. There is no reason to wait to get married, so I think we should move the wedding up to Wednesday. I think that it will be good for us since we haven’t spent that much time together. Well, except for the long hours spent together in my dreams. ;) I wish that I could be with you right now. Maybe we can hang out sometime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fore the wedding? I think we should, but that’s entirely up to you, my love. Please reply to this message so I can tell my friends! Love, Pari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16" descr="orlando_bloom.jpg"/>
          <p:cNvPicPr/>
          <p:nvPr/>
        </p:nvPicPr>
        <p:blipFill>
          <a:blip r:embed="rId4"/>
          <a:srcRect l="25942" t="0" r="3700" b="13597"/>
          <a:stretch/>
        </p:blipFill>
        <p:spPr>
          <a:xfrm>
            <a:off x="304920" y="1752480"/>
            <a:ext cx="1143000" cy="105264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7"/>
          <p:cNvSpPr/>
          <p:nvPr/>
        </p:nvSpPr>
        <p:spPr>
          <a:xfrm>
            <a:off x="1676520" y="4267080"/>
            <a:ext cx="457200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is, I really feel like you are pushing me into marrying you. I know you really want to be with me and I guess I know that you love me and would give the world to me, but maybe we are just meant to be friends. I just don’t get why we need to be married sooner. Is there really a twenty-four hour difference? Are my parents pushing you into making me marry you earlier? Did they put you up to this? If they did, you can tell me. I really wish that you would just wait until Thursday. I really don’t think there is a difference. And, I honestly could care less if you are embarrassed by me, because I really do think that you are a creep. I tell people these things about you because I do not want to marry you! You make me feel afraid of you because you are so pushy. It’s just that you freak me out. Sorry, Juliet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53" descr="juliet.jpg"/>
          <p:cNvPicPr/>
          <p:nvPr/>
        </p:nvPicPr>
        <p:blipFill>
          <a:blip r:embed="rId5"/>
          <a:stretch/>
        </p:blipFill>
        <p:spPr>
          <a:xfrm>
            <a:off x="228600" y="4343400"/>
            <a:ext cx="13208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17"/>
          <p:cNvSpPr/>
          <p:nvPr/>
        </p:nvSpPr>
        <p:spPr>
          <a:xfrm>
            <a:off x="106668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box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1981080" y="121932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28195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Upda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1066680" y="1219320"/>
            <a:ext cx="9144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essag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19" descr="juliet.jpg"/>
          <p:cNvPicPr/>
          <p:nvPr/>
        </p:nvPicPr>
        <p:blipFill>
          <a:blip r:embed="rId1"/>
          <a:stretch/>
        </p:blipFill>
        <p:spPr>
          <a:xfrm>
            <a:off x="152280" y="533520"/>
            <a:ext cx="839880" cy="6858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7"/>
          <p:cNvSpPr/>
          <p:nvPr/>
        </p:nvSpPr>
        <p:spPr>
          <a:xfrm>
            <a:off x="1905120" y="1904760"/>
            <a:ext cx="36795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y Juliet, thanks for writing me back. I really wish that you said yes because my heart is broken now. I feel really bad for seeming like a creeper and a stalker, but I really like you, so I guess I just came off that way. I want to be with you really bad and it really sucks that you don’t want to be with me. I don’t know how I could live without you, Juliet! Without you, Juliet, my life is nothing. It’s just a little box in my heart that is so empty without you. Is there any way that I can get you back? Is there something I can do to make you like me? I just want you to know that I love you and you are the only girl for me. If you don’t marry me then I will just have to tell your dad. If I can’t have you, no one can! -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16" descr="orlando_bloom.jpg"/>
          <p:cNvPicPr/>
          <p:nvPr/>
        </p:nvPicPr>
        <p:blipFill>
          <a:blip r:embed="rId2"/>
          <a:srcRect l="25942" t="0" r="3700" b="13597"/>
          <a:stretch/>
        </p:blipFill>
        <p:spPr>
          <a:xfrm>
            <a:off x="304920" y="1828800"/>
            <a:ext cx="1143000" cy="1052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Paige</cp:lastModifiedBy>
  <dcterms:modified xsi:type="dcterms:W3CDTF">2010-05-18T02:00:04Z</dcterms:modified>
  <cp:revision>91</cp:revision>
  <dc:subject/>
  <dc:title>Profile</dc:title>
</cp:coreProperties>
</file>